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17F-9F57-4CCD-A33D-C91A847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6AF-93E4-4077-958B-7CC43A6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088-EBFD-4788-87DE-A77A85C4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31C-1C24-4544-8F22-003AE1B9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480B-814B-4BDB-9E18-15149A1A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63CE-EA16-472E-B13A-DF120CE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E68-A94F-481F-9C7F-64CD63A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06AC-A8D6-4E28-AB04-97BEF0D9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387-47BE-4B22-905B-9C425CB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E9D-0D10-4EE8-907E-6C743F8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DEA7-D36C-4056-9268-1F19428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8E0-74E5-410F-8599-6A99C539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1041-2C33-4187-A97B-097F66D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8C2B-FB07-4E00-9EFA-9B7797A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9DD5-2E82-4CB4-ABB6-FACB8D4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8DCB-897E-4BD9-81DF-9DAC4F82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73B0-66E4-4402-8944-8007E7E7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EC1-A120-4911-B195-ED97586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405-3EDB-4B12-8F2C-B9CBB425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FEB-5694-4FAF-BAFE-6121851E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94C-E48F-42AC-8FE0-0EDE8AC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08E-DE20-4B76-A1A4-90C27A75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C05-5593-4B89-8449-B011AE8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F8E-D975-4C12-BDE9-19423A5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6D31-7F55-4C69-B693-689B8C3ED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431B-6B8D-4FDA-B9C4-1DD60D496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reating Graph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j0282809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redits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ritten by Monica Yuskait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981080"/>
            <a:ext cx="7467840" cy="609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ustrations fro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819520"/>
            <a:ext cx="7848720" cy="2361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l Gallery by Corel 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oderbund ClipArt T/Maker 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2160" y="5410080"/>
            <a:ext cx="8151840" cy="99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ing of this software must be approved by Mo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skaitis, Walter White Elementary, CU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ftware may only be used in Ceres Unified School Distri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Where Does the Information Come Fro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question is ask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3040" y="3429000"/>
            <a:ext cx="660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 of ice cream d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eryone like in our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Gather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urvey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2438280"/>
          <a:ext cx="7238880" cy="39038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1 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i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aw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t &amp; C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1 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y R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bble G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203080" y="4446360"/>
            <a:ext cx="718920" cy="2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03080" y="2617560"/>
            <a:ext cx="718920" cy="2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03080" y="3760560"/>
            <a:ext cx="718920" cy="2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ar 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1814400"/>
            <a:ext cx="777240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ar 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47920" y="2438280"/>
          <a:ext cx="76960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38280"/>
                    <a:ext cx="7696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ie chart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57200" y="2428920"/>
          <a:ext cx="77868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428920"/>
                    <a:ext cx="77868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ie chart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1600" y="2362320"/>
          <a:ext cx="777240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77724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ine 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7920" y="2162160"/>
            <a:ext cx="76960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How Is the Information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esented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ictograph is ma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429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438280"/>
          <a:ext cx="7238880" cy="39038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i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awber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t &amp; C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y Ro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bble G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FODDR087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87" name="FODDR087" descr=""/>
          <p:cNvPicPr/>
          <p:nvPr/>
        </p:nvPicPr>
        <p:blipFill>
          <a:blip r:embed="rId2"/>
          <a:stretch/>
        </p:blipFill>
        <p:spPr>
          <a:xfrm>
            <a:off x="5638680" y="243828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88" name="FODDR087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89" name="FODDR087" descr=""/>
          <p:cNvPicPr/>
          <p:nvPr/>
        </p:nvPicPr>
        <p:blipFill>
          <a:blip r:embed="rId4"/>
          <a:stretch/>
        </p:blipFill>
        <p:spPr>
          <a:xfrm>
            <a:off x="624852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0" name="FODDR087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91" name="FODDR087" descr=""/>
          <p:cNvPicPr/>
          <p:nvPr/>
        </p:nvPicPr>
        <p:blipFill>
          <a:blip r:embed="rId6"/>
          <a:stretch/>
        </p:blipFill>
        <p:spPr>
          <a:xfrm>
            <a:off x="6858000" y="243828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2" name="FODDR087" descr=""/>
          <p:cNvPicPr/>
          <p:nvPr/>
        </p:nvPicPr>
        <p:blipFill>
          <a:blip r:embed="rId7"/>
          <a:stretch/>
        </p:blipFill>
        <p:spPr>
          <a:xfrm>
            <a:off x="5334120" y="30481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3" name="FODDR087" descr=""/>
          <p:cNvPicPr/>
          <p:nvPr/>
        </p:nvPicPr>
        <p:blipFill>
          <a:blip r:embed="rId8"/>
          <a:stretch/>
        </p:blipFill>
        <p:spPr>
          <a:xfrm>
            <a:off x="5638680" y="30481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94" name="FODDR087" descr=""/>
          <p:cNvPicPr/>
          <p:nvPr/>
        </p:nvPicPr>
        <p:blipFill>
          <a:blip r:embed="rId9"/>
          <a:stretch/>
        </p:blipFill>
        <p:spPr>
          <a:xfrm>
            <a:off x="5943600" y="30481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5" name="FODDR087" descr=""/>
          <p:cNvPicPr/>
          <p:nvPr/>
        </p:nvPicPr>
        <p:blipFill>
          <a:blip r:embed="rId10"/>
          <a:stretch/>
        </p:blipFill>
        <p:spPr>
          <a:xfrm>
            <a:off x="5334120" y="37339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6" name="FODDR087" descr=""/>
          <p:cNvPicPr/>
          <p:nvPr/>
        </p:nvPicPr>
        <p:blipFill>
          <a:blip r:embed="rId11"/>
          <a:stretch/>
        </p:blipFill>
        <p:spPr>
          <a:xfrm>
            <a:off x="5638680" y="37339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197" name="FODDR087" descr=""/>
          <p:cNvPicPr/>
          <p:nvPr/>
        </p:nvPicPr>
        <p:blipFill>
          <a:blip r:embed="rId12"/>
          <a:stretch/>
        </p:blipFill>
        <p:spPr>
          <a:xfrm>
            <a:off x="5943600" y="37339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8" name="FODDR087" descr=""/>
          <p:cNvPicPr/>
          <p:nvPr/>
        </p:nvPicPr>
        <p:blipFill>
          <a:blip r:embed="rId13"/>
          <a:stretch/>
        </p:blipFill>
        <p:spPr>
          <a:xfrm>
            <a:off x="6248520" y="37339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199" name="FODDR087" descr=""/>
          <p:cNvPicPr/>
          <p:nvPr/>
        </p:nvPicPr>
        <p:blipFill>
          <a:blip r:embed="rId14"/>
          <a:stretch/>
        </p:blipFill>
        <p:spPr>
          <a:xfrm>
            <a:off x="6553080" y="37339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0" name="FODDR087" descr=""/>
          <p:cNvPicPr/>
          <p:nvPr/>
        </p:nvPicPr>
        <p:blipFill>
          <a:blip r:embed="rId15"/>
          <a:stretch/>
        </p:blipFill>
        <p:spPr>
          <a:xfrm>
            <a:off x="533412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1" name="FODDR087" descr=""/>
          <p:cNvPicPr/>
          <p:nvPr/>
        </p:nvPicPr>
        <p:blipFill>
          <a:blip r:embed="rId16"/>
          <a:stretch/>
        </p:blipFill>
        <p:spPr>
          <a:xfrm>
            <a:off x="5638680" y="44197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2" name="FODDR087" descr=""/>
          <p:cNvPicPr/>
          <p:nvPr/>
        </p:nvPicPr>
        <p:blipFill>
          <a:blip r:embed="rId17"/>
          <a:stretch/>
        </p:blipFill>
        <p:spPr>
          <a:xfrm>
            <a:off x="594360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3" name="FODDR087" descr=""/>
          <p:cNvPicPr/>
          <p:nvPr/>
        </p:nvPicPr>
        <p:blipFill>
          <a:blip r:embed="rId18"/>
          <a:stretch/>
        </p:blipFill>
        <p:spPr>
          <a:xfrm>
            <a:off x="624852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4" name="FODDR087" descr=""/>
          <p:cNvPicPr/>
          <p:nvPr/>
        </p:nvPicPr>
        <p:blipFill>
          <a:blip r:embed="rId19"/>
          <a:stretch/>
        </p:blipFill>
        <p:spPr>
          <a:xfrm>
            <a:off x="6553080" y="44197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5" name="FODDR087" descr=""/>
          <p:cNvPicPr/>
          <p:nvPr/>
        </p:nvPicPr>
        <p:blipFill>
          <a:blip r:embed="rId20"/>
          <a:stretch/>
        </p:blipFill>
        <p:spPr>
          <a:xfrm>
            <a:off x="685800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6" name="FODDR087" descr=""/>
          <p:cNvPicPr/>
          <p:nvPr/>
        </p:nvPicPr>
        <p:blipFill>
          <a:blip r:embed="rId21"/>
          <a:stretch/>
        </p:blipFill>
        <p:spPr>
          <a:xfrm>
            <a:off x="7162920" y="44197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7" name="FODDR087" descr=""/>
          <p:cNvPicPr/>
          <p:nvPr/>
        </p:nvPicPr>
        <p:blipFill>
          <a:blip r:embed="rId22"/>
          <a:stretch/>
        </p:blipFill>
        <p:spPr>
          <a:xfrm>
            <a:off x="5334120" y="5105520"/>
            <a:ext cx="257040" cy="565200"/>
          </a:xfrm>
          <a:prstGeom prst="rect">
            <a:avLst/>
          </a:prstGeom>
          <a:ln w="0">
            <a:noFill/>
          </a:ln>
        </p:spPr>
      </p:pic>
      <p:pic>
        <p:nvPicPr>
          <p:cNvPr id="208" name="FODDR087" descr=""/>
          <p:cNvPicPr/>
          <p:nvPr/>
        </p:nvPicPr>
        <p:blipFill>
          <a:blip r:embed="rId23"/>
          <a:stretch/>
        </p:blipFill>
        <p:spPr>
          <a:xfrm>
            <a:off x="5638680" y="5105520"/>
            <a:ext cx="257400" cy="565200"/>
          </a:xfrm>
          <a:prstGeom prst="rect">
            <a:avLst/>
          </a:prstGeom>
          <a:ln w="0">
            <a:noFill/>
          </a:ln>
        </p:spPr>
      </p:pic>
      <p:pic>
        <p:nvPicPr>
          <p:cNvPr id="209" name="FODDR087" descr=""/>
          <p:cNvPicPr/>
          <p:nvPr/>
        </p:nvPicPr>
        <p:blipFill>
          <a:blip r:embed="rId24"/>
          <a:stretch/>
        </p:blipFill>
        <p:spPr>
          <a:xfrm>
            <a:off x="5334120" y="5791320"/>
            <a:ext cx="257040" cy="56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0:24:58Z</dcterms:created>
  <dc:creator>Monica/Bob Yuskaitis</dc:creator>
  <dc:description/>
  <dc:language>en-US</dc:language>
  <cp:lastModifiedBy>Monica/Bob Yuskaitis</cp:lastModifiedBy>
  <dcterms:modified xsi:type="dcterms:W3CDTF">2000-02-06T15:03:41Z</dcterms:modified>
  <cp:revision>4</cp:revision>
  <dc:subject/>
  <dc:title>Creating Graphs</dc:title>
</cp:coreProperties>
</file>